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2B2-1CBA-446E-8E4C-767AA529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F0D-140F-4E01-BA64-14C9330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3C6-AE3B-4100-A871-63090155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42D-8128-4570-8F52-50DF59D1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C44-3792-4528-962F-A780E1CF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92D-0FB7-487E-BB45-CF6B60C1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358-8C84-43EE-9432-14EAE35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850-F675-4A76-B07F-39F08187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5A7-2E32-48D2-ACA0-E439829F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758-F7F2-43DB-A302-D4F8935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696-C002-4A67-AFC9-A3FB6CB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55F-5759-45DF-9DDE-E77E645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8924-1567-4291-9D5F-77B1C2E5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Fair Projec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y Sala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e fastball will be fastest and more consis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3915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s, 5 pitchers, catcher and a bat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ball throw 5 strikes and the speed all together is 526mph, the curveball had 6 strikes and the speed was 472mph and the screwball had 4 strikes and the speed was 433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ball was the fastest but the curveball throw 6 strik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si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ling college 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57657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26:40Z</dcterms:created>
  <dc:creator>USD376</dc:creator>
  <dc:description/>
  <dc:language>en-US</dc:language>
  <cp:lastModifiedBy>USD376</cp:lastModifiedBy>
  <dcterms:modified xsi:type="dcterms:W3CDTF">2010-05-10T14:33:46Z</dcterms:modified>
  <cp:revision>7</cp:revision>
  <dc:subject/>
  <dc:title>Science fair project  </dc:title>
</cp:coreProperties>
</file>